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408-1CDE-4C1D-800F-D899679C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AF2-7765-4FE4-949A-5DFB5D4D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D74-0D7A-4A22-ABB3-3DA218C4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19E-7BA7-4F75-B0D8-1BE9EA5B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E71E-FDC5-4B53-ACBE-0E37CC0A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0DB-9106-48AC-877C-20BE21D7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832B-04A6-4A4F-A2A4-A6CA2B4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1A96-7BE7-4AD8-9814-D7A6700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279-452C-4061-8EED-30E63B1D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6C6-8130-4D9F-9720-0EDA8AEE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7825-BA25-4810-9C85-918508D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984-4A7E-4C35-ADDF-C490719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454B-3458-4F08-A253-58581BB4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65C-5C10-477C-B83B-BE6CEBD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38FF-E1B1-4870-BE52-166FD431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342-F7B5-412C-B507-85B43913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22C7-1920-4A5D-8AF1-9A6B9DF8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CCD-98CC-4AAA-AB2B-A20217CA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B73-6C54-4CEA-A4AB-38303AE8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7AB-0711-4B6E-A9FD-EC4C4EA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1CE-058A-4180-9FEC-E9A44FBC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2E1-AB50-4390-B412-371410F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88D-3051-419B-A35D-4B588634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EFF-C912-44E9-A2E9-EE522C2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C5C3-B357-4966-A79F-84D2482CCA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BAF3-48E7-4F19-B43D-DA01B92FE2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roisordre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rench Revolu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EAT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ve of senseless pan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d by rumors &amp; rebell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Fear changed into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Peasants became outla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READ M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Riot by women over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ice of 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Marched to Versail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ing's resid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Forced King &amp; Queen to return to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onstitutional Governmen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ssembly created- Ends Old Reg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. 1789- Reforms made: all citizens equ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te Declaration of Rights: citizens given equal justice, freedom of speech &amp; freedom of religion (Women not include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1791- Failed Attempt by King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o es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d to escape to Aust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Divisions Develop: 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Constitution of 1791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rchy remains, but limited pow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 enforce the la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Legislative Assemb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 create la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in France led to division in Assembly (Political Spectru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Political Spectru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rench Revolu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cobi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The Plain   Girondists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yalis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ca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Liberal       Moderate    Conserva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ction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od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vo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Favo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vo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Keep as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Return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so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p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        chan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tradi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447920" y="289548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traight Connector 7"/>
          <p:cNvSpPr/>
          <p:nvPr/>
        </p:nvSpPr>
        <p:spPr>
          <a:xfrm>
            <a:off x="14479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traight Connector 11"/>
          <p:cNvSpPr/>
          <p:nvPr/>
        </p:nvSpPr>
        <p:spPr>
          <a:xfrm>
            <a:off x="32767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46483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617220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14"/>
          <p:cNvSpPr/>
          <p:nvPr/>
        </p:nvSpPr>
        <p:spPr>
          <a:xfrm>
            <a:off x="78487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Jacobin Autho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uis is executed as a traitor after 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anuary 179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at (writer) calls for the head of roy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spierre surfaces as the revolutions voice and 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execution-louis-xvi"/>
          <p:cNvPicPr/>
          <p:nvPr/>
        </p:nvPicPr>
        <p:blipFill>
          <a:blip r:embed="rId1"/>
          <a:stretch/>
        </p:blipFill>
        <p:spPr>
          <a:xfrm>
            <a:off x="1447920" y="4038480"/>
            <a:ext cx="601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Reign of Terr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spierre was Head of Committee of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are executed as enemies of the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radicals fear being 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spierre is brought down by colleagu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t in the jaw &amp; sent to the guilloti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re still star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unha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anti%20robespierre%20cartoon"/>
          <p:cNvPicPr/>
          <p:nvPr/>
        </p:nvPicPr>
        <p:blipFill>
          <a:blip r:embed="rId1"/>
          <a:stretch/>
        </p:blipFill>
        <p:spPr>
          <a:xfrm>
            <a:off x="5105520" y="464832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French Rev. Timeline: Who controlled France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lute Mon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tes Gener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7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Assemb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ummer 17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onvention: Began in 17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ing Louis convicted of treason: Sent to Guillot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ttee of Public Safety: Formed to direct the war effort (Leader: Robespier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ign of Terr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July 1793-July 17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Victims: Marie Antoinette &amp; 17,000—mostly commo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ign of Terror ends when Robespierre guillotin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267080" y="1447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343400" y="3048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343400" y="426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868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nstitution written: Create the Directory = Executive council of 5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Bonap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Joined leaders in coup d’etat: Kicked out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nfo about Napol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Great military skills: Became hero because w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battles for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Married to Josephine: leader of Paris socie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799- New constitution: Established a dictat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804- Named himself “Emperor of the Frenc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419720" y="1295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705720" y="5791320"/>
            <a:ext cx="243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5 Stages of the French Revolu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. ? Status 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? the Old Reg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ind Fla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equalities unfair to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ovement to Re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ring changes by National Assembly &amp; Declaration of Rights of Man &amp; Citi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ovement to Supp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onarchy of France &amp; other countries try to keep mon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hange is realiz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onarchy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o you think?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view protesting?  Is it a useful tool in Amer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urning the American flag be unconstituti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people decide when a revolution is needed? How do rebels create stabi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67057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Old Regime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Social &amp; Political 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ystem in France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 Monarc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olled richest &amp; most powerfu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nch society divided into 3 estates (class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tes determined legal rights &amp;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ANd9GcRwD2i5i9s6marJpk3TYEYYtYgSMI1KUOpBncnbtXuV2OcVcdueXQ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380880"/>
          <a:ext cx="8229600" cy="609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sta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sta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sta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 EL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POPUL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ND OWN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he &amp; to the Govern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INF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cc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lergy &amp; Lower Clerg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cc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tith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osts in government &amp; milita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ain income: Feudal du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ncludes 3 subgroups: peasants, city workers &amp; bourgeoisi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uses of French Revolut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Growing unrest between cla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 angry…unfair situ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conomic Trou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burde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p failures: Food shor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in 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vagant spending by King &amp; Qu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Enlightenment id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ate questioned society’s stru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American Rev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eak Leader: Louis XV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cisive &amp; allowed matters to drif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d little attention to advis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Marie Antoinet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d &amp; gave poor adv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 of Austria’s royal family (France’s enem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DAWN OF A REVOLUTION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. 654-655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TES GENERAL  (1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ASSEMBLY  (2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NIS COURT OATH  (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MING THE BASTILLE  (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FEAR (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 MARCH  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STATES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Delegates represented each e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Rules: Estates meet separately &amp; had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Unfair to 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state: always outv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TIONAL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Members of the 3rd Estat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Wanted to pass laws &amp; ma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orms (end of absolute monarc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220px-Troisord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352680"/>
            <a:ext cx="1811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NNIS COURT OA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3rd Estate members locked out of their meeting room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Met on tennis court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Took oath: Pledge to write a new Constitution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King ordered other 2 Estates to join the National Assemb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ORMING OF THE BAST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Wanted weapons to defend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Entered the Bastille (prison) &amp; took it over by killing gu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Event to start the French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5:17Z</dcterms:created>
  <dc:creator>ryan</dc:creator>
  <dc:description/>
  <dc:language>en-US</dc:language>
  <cp:lastModifiedBy>Kuenzi, Robert</cp:lastModifiedBy>
  <dcterms:modified xsi:type="dcterms:W3CDTF">2014-03-18T19:08:41Z</dcterms:modified>
  <cp:revision>48</cp:revision>
  <dc:subject/>
  <dc:title>French Revolution</dc:title>
</cp:coreProperties>
</file>